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6"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3D0F3-0824-492C-BE24-BD5647E91686}" type="slidenum">
              <a:rPr b="0" lang="es-PE"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17640" y="744480"/>
            <a:ext cx="4962600" cy="372276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2D5B7-79B6-4269-A9A2-403F9756663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1C1C9-9DA6-45A1-80B1-63184D701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5DEEF-4656-471F-91EB-D3F7BFBB0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AF88C-C411-43DF-AB7F-0BAA663D6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D5DE8-BA10-43AA-B064-08FE4AEBD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0B1CDF-EC41-44C6-BD83-3475B5010A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913D4-FAF5-4C06-9572-11D92EF6C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933500-687E-4E91-BB03-AEDA24BC6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64A845-459E-46E1-9603-2BF2D169A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2D025-4E2A-4809-BA19-F69DB95D1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1EE3F-7AD7-43E8-8157-66C4BF9D1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C0617-64C2-4792-B969-E7AA41E5A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CD140-A85E-4D40-942F-70D71B316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1F1BD-29C9-4148-AE3D-742244543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E30A3-74D3-42D9-AA17-ED18298AD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703B0-0666-40DE-AB99-15C2D2128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FA9F06-2600-4E18-8790-5153B09A24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B93A06-1405-4E14-911B-A7B0666F73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C4C088-1486-4086-B93E-C2DF5BB520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FC571C-D9A2-4420-B371-AF8907A3AC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1DE8C0-B5B7-4636-A0CD-62E28A9CBA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3F01F9-F964-49B9-B8F3-8EAA42352C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74417F-FCF1-4642-B4A4-49676EEAEE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4A122-8DD9-4425-8E98-8496A3EAC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EF0673-7A5A-429D-9DB8-7F6DE83526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C8082C-E18D-445E-BDC0-E9E654F3D7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250984-778C-4861-BB59-EB9BB1B5AD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D865F9-6F31-46E4-B4FA-72649A6242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A99D5A-7E96-4665-8F56-8CD40CA3AE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D5BC93-D9C4-4B99-8690-E6EB1CE5DC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223B8D-B11B-47F1-8631-2E99B2B5A5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1C000A-A38D-4BEB-87C0-886AE60675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BF5F5D-CCC1-4C8D-ABA7-E89E862910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2DF4CB-4D13-4562-A85A-5C2F0BCAD7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649A4-6D82-417C-9E8E-8D4DB9EAE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CEF114-8975-406C-8BFD-35AFEF7A70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F012B5-5787-4780-9FA3-6C5EA9CDA8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301F79-BD27-4BFC-B11B-88106BD5AE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1D41C7-6489-4A29-B8DB-C1F2592024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312610-FC6A-463B-823B-B5A419B629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B3B940-A2FE-43E8-8D17-3B42164F24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6003E4-BE8C-45B7-B87A-C099721840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889DFD-3818-4836-9748-8CBA46E6DA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FB957D-3355-4D01-A669-D7C5CD1963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CD905-A233-4DC6-A506-74B5DBF5F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6E841-5F83-4A30-B20C-8698F1880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EB481-52C2-48B0-99E4-544076DE3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08276-2490-42D4-8DB4-912498053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BDB84-21F2-4E9C-AAA5-C1168CD6A1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419AC-3414-4D7F-930E-9F04754C70A8}" type="slidenum">
              <a:rPr b="0" lang="es-P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
          <p:cNvPicPr/>
          <p:nvPr/>
        </p:nvPicPr>
        <p:blipFill>
          <a:blip r:embed="rId2"/>
          <a:stretch/>
        </p:blipFill>
        <p:spPr>
          <a:xfrm>
            <a:off x="0" y="0"/>
            <a:ext cx="6705720" cy="1628640"/>
          </a:xfrm>
          <a:prstGeom prst="rect">
            <a:avLst/>
          </a:prstGeom>
          <a:ln w="0">
            <a:noFill/>
          </a:ln>
        </p:spPr>
      </p:pic>
      <p:pic>
        <p:nvPicPr>
          <p:cNvPr id="42" name="Picture 2" descr=""/>
          <p:cNvPicPr/>
          <p:nvPr/>
        </p:nvPicPr>
        <p:blipFill>
          <a:blip r:embed="rId3"/>
          <a:srcRect l="33599" t="93530" r="0" b="3630"/>
          <a:stretch/>
        </p:blipFill>
        <p:spPr>
          <a:xfrm>
            <a:off x="880920" y="6676920"/>
            <a:ext cx="8263080" cy="193680"/>
          </a:xfrm>
          <a:prstGeom prst="rect">
            <a:avLst/>
          </a:prstGeom>
          <a:ln w="0">
            <a:noFill/>
          </a:ln>
        </p:spPr>
      </p:pic>
      <p:pic>
        <p:nvPicPr>
          <p:cNvPr id="43" name="Imagen 8" descr=""/>
          <p:cNvPicPr/>
          <p:nvPr/>
        </p:nvPicPr>
        <p:blipFill>
          <a:blip r:embed="rId4"/>
          <a:stretch/>
        </p:blipFill>
        <p:spPr>
          <a:xfrm>
            <a:off x="6948360" y="0"/>
            <a:ext cx="1887840" cy="5032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C7BCA-CDD8-4598-BCB3-D421E9D065BE}" type="slidenum">
              <a:rPr b="0" lang="es-P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3" descr=""/>
          <p:cNvPicPr/>
          <p:nvPr/>
        </p:nvPicPr>
        <p:blipFill>
          <a:blip r:embed="rId2"/>
          <a:stretch/>
        </p:blipFill>
        <p:spPr>
          <a:xfrm>
            <a:off x="0" y="0"/>
            <a:ext cx="9159840" cy="2087640"/>
          </a:xfrm>
          <a:prstGeom prst="rect">
            <a:avLst/>
          </a:prstGeom>
          <a:ln w="0">
            <a:noFill/>
          </a:ln>
        </p:spPr>
      </p:pic>
      <p:pic>
        <p:nvPicPr>
          <p:cNvPr id="86" name="Picture 2" descr=""/>
          <p:cNvPicPr/>
          <p:nvPr/>
        </p:nvPicPr>
        <p:blipFill>
          <a:blip r:embed="rId3"/>
          <a:srcRect l="33599" t="93530" r="0" b="3630"/>
          <a:stretch/>
        </p:blipFill>
        <p:spPr>
          <a:xfrm>
            <a:off x="880920" y="6357960"/>
            <a:ext cx="8263080" cy="50004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C5070-98E9-4B07-BC04-C72F6622784B}" type="slidenum">
              <a:rPr b="0" lang="es-P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3" descr=""/>
          <p:cNvPicPr/>
          <p:nvPr/>
        </p:nvPicPr>
        <p:blipFill>
          <a:blip r:embed="rId2"/>
          <a:stretch/>
        </p:blipFill>
        <p:spPr>
          <a:xfrm>
            <a:off x="0" y="0"/>
            <a:ext cx="9159840" cy="2087640"/>
          </a:xfrm>
          <a:prstGeom prst="rect">
            <a:avLst/>
          </a:prstGeom>
          <a:ln w="0">
            <a:noFill/>
          </a:ln>
        </p:spPr>
      </p:pic>
      <p:pic>
        <p:nvPicPr>
          <p:cNvPr id="129" name="Picture 2" descr=""/>
          <p:cNvPicPr/>
          <p:nvPr/>
        </p:nvPicPr>
        <p:blipFill>
          <a:blip r:embed="rId3"/>
          <a:srcRect l="33599" t="93530" r="0" b="3630"/>
          <a:stretch/>
        </p:blipFill>
        <p:spPr>
          <a:xfrm>
            <a:off x="880920" y="6357960"/>
            <a:ext cx="8263080" cy="50004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D68C1-0CD0-4B33-8618-0937AED04FA8}" type="slidenum">
              <a:rPr b="0" lang="es-P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file:///../../&#160;/PP&amp;E/MANUAL%20DE%20POL&#205;TICAS%20CONTABLES%20VARIOS/casos%20pr&#225;cticos%20directiva%20PP&amp;E/Modificaci&#243;n%20de%20vida%20&#250;til.docx" TargetMode="External"/><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F29BC-CF6F-4A35-88B3-101FA0829458}" type="slidenum">
              <a:rPr b="0" lang="es-E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79" name="Imagen 3" descr=""/>
          <p:cNvPicPr/>
          <p:nvPr/>
        </p:nvPicPr>
        <p:blipFill>
          <a:blip r:embed="rId1"/>
          <a:stretch/>
        </p:blipFill>
        <p:spPr>
          <a:xfrm>
            <a:off x="3328920" y="2639880"/>
            <a:ext cx="4535640" cy="5980320"/>
          </a:xfrm>
          <a:prstGeom prst="rect">
            <a:avLst/>
          </a:prstGeom>
          <a:ln w="0">
            <a:noFill/>
          </a:ln>
        </p:spPr>
      </p:pic>
      <p:pic>
        <p:nvPicPr>
          <p:cNvPr id="180" name="Rectángulo 5" descr=""/>
          <p:cNvPicPr/>
          <p:nvPr/>
        </p:nvPicPr>
        <p:blipFill>
          <a:blip r:embed="rId2"/>
          <a:stretch/>
        </p:blipFill>
        <p:spPr>
          <a:xfrm>
            <a:off x="2554200" y="701640"/>
            <a:ext cx="6334200" cy="1090800"/>
          </a:xfrm>
          <a:prstGeom prst="rect">
            <a:avLst/>
          </a:prstGeom>
          <a:ln w="0">
            <a:noFill/>
          </a:ln>
        </p:spPr>
      </p:pic>
      <p:pic>
        <p:nvPicPr>
          <p:cNvPr id="181" name="CuadroTexto 4" descr=""/>
          <p:cNvPicPr/>
          <p:nvPr/>
        </p:nvPicPr>
        <p:blipFill>
          <a:blip r:embed="rId3"/>
          <a:stretch/>
        </p:blipFill>
        <p:spPr>
          <a:xfrm>
            <a:off x="3193920" y="1773360"/>
            <a:ext cx="5042160" cy="645840"/>
          </a:xfrm>
          <a:prstGeom prst="rect">
            <a:avLst/>
          </a:prstGeom>
          <a:ln w="0">
            <a:noFill/>
          </a:ln>
        </p:spPr>
      </p:pic>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Conector recto 4"/>
          <p:cNvSpPr/>
          <p:nvPr/>
        </p:nvSpPr>
        <p:spPr>
          <a:xfrm>
            <a:off x="246240" y="1390680"/>
            <a:ext cx="859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Rectángulo 7"/>
          <p:cNvSpPr/>
          <p:nvPr/>
        </p:nvSpPr>
        <p:spPr>
          <a:xfrm>
            <a:off x="246240" y="1528920"/>
            <a:ext cx="4162320" cy="42559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CuadroTexto 8"/>
          <p:cNvSpPr/>
          <p:nvPr/>
        </p:nvSpPr>
        <p:spPr>
          <a:xfrm>
            <a:off x="399960" y="2332080"/>
            <a:ext cx="384984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500" spc="-1" strike="noStrike">
                <a:solidFill>
                  <a:srgbClr val="000000"/>
                </a:solidFill>
                <a:latin typeface="Arial"/>
                <a:ea typeface="Arial"/>
              </a:rPr>
              <a:t>La entidad corregirá los errores materiales de periodos anteriores de forma </a:t>
            </a:r>
            <a:r>
              <a:rPr b="1" i="1" lang="es-PE" sz="1500" spc="-1" strike="noStrike" u="sng">
                <a:solidFill>
                  <a:srgbClr val="000000"/>
                </a:solidFill>
                <a:uFillTx/>
                <a:latin typeface="Arial"/>
                <a:ea typeface="Arial"/>
              </a:rPr>
              <a:t>retroactiva</a:t>
            </a:r>
            <a:r>
              <a:rPr b="0" i="1" lang="es-PE" sz="1500" spc="-1" strike="noStrike">
                <a:solidFill>
                  <a:srgbClr val="000000"/>
                </a:solidFill>
                <a:latin typeface="Arial"/>
                <a:ea typeface="Arial"/>
              </a:rPr>
              <a:t>, en los primeros estados financieros formulados después de haberlos descubierto, salvo que sea impracticable determinar los efectos en cada periodo específico o el efecto acumulado del error.</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227" name="Rectángulo 9" descr=""/>
          <p:cNvPicPr/>
          <p:nvPr/>
        </p:nvPicPr>
        <p:blipFill>
          <a:blip r:embed="rId1"/>
          <a:stretch/>
        </p:blipFill>
        <p:spPr>
          <a:xfrm>
            <a:off x="566640" y="1596960"/>
            <a:ext cx="3517920" cy="573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CuadroTexto 3"/>
          <p:cNvSpPr/>
          <p:nvPr/>
        </p:nvSpPr>
        <p:spPr>
          <a:xfrm>
            <a:off x="250920" y="1341360"/>
            <a:ext cx="4005000" cy="423108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u="sng">
                <a:solidFill>
                  <a:srgbClr val="000000"/>
                </a:solidFill>
                <a:uFillTx/>
                <a:latin typeface="Calibri"/>
              </a:rPr>
              <a:t>Recuperación de cuentas por cobranza dudos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alibri"/>
              </a:rPr>
              <a:t>En el año 2012 una empresa realizó el asiento por estimación de cobranza dudosa de uno de sus clientes por el importe de 18 750 soles dado que por más gestión de cobranza realizada, el cliente no cumplió con el pago de la deud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alibri"/>
              </a:rPr>
              <a:t>Por otro lado, en el mes de febrero 2014, se consigue cobrar al cliente una parte del monto por cobrar, ascendente a la cantidad de S/. 15 000 soles ¿cómo serían los asientos contables por la recuperación de dicha deuda? Identificar si corresponde a un cambio en estimación, cambio de política o error.</a:t>
            </a:r>
            <a:endParaRPr b="0" lang="en-US" sz="1600" spc="-1" strike="noStrike">
              <a:solidFill>
                <a:srgbClr val="000000"/>
              </a:solidFill>
              <a:latin typeface="Arial"/>
            </a:endParaRPr>
          </a:p>
        </p:txBody>
      </p:sp>
      <p:sp>
        <p:nvSpPr>
          <p:cNvPr id="229" name="CuadroTexto 4"/>
          <p:cNvSpPr/>
          <p:nvPr/>
        </p:nvSpPr>
        <p:spPr>
          <a:xfrm>
            <a:off x="4853160" y="1360440"/>
            <a:ext cx="4005000" cy="325764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u="sng">
                <a:solidFill>
                  <a:srgbClr val="000000"/>
                </a:solidFill>
                <a:uFillTx/>
                <a:latin typeface="Calibri"/>
              </a:rPr>
              <a:t>Costos de Ventas no registr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alibri"/>
              </a:rPr>
              <a:t>Durante el año 2014, una empresa descubrió que en el mes de noviembre 2013, se había realizado una venta de mercaderías, pero se omitió realizar el asiento contable correspondiente al costo de venta de las mercaderías vendidas en esa fecha ¿cuál sería el tratamiento contable? Identificar si corresponde a un cambio de política contable, cambio en la estimación o error.  ¿se efectuará algún ajuste por el impuesto a la ren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2" name="Rectángulo 6" descr=""/>
          <p:cNvPicPr/>
          <p:nvPr/>
        </p:nvPicPr>
        <p:blipFill>
          <a:blip r:embed="rId1"/>
          <a:stretch/>
        </p:blipFill>
        <p:spPr>
          <a:xfrm>
            <a:off x="255600" y="1749600"/>
            <a:ext cx="1324080" cy="652320"/>
          </a:xfrm>
          <a:prstGeom prst="rect">
            <a:avLst/>
          </a:prstGeom>
          <a:ln w="0">
            <a:noFill/>
          </a:ln>
        </p:spPr>
      </p:pic>
      <p:sp>
        <p:nvSpPr>
          <p:cNvPr id="183" name="Rectángulo 7"/>
          <p:cNvSpPr/>
          <p:nvPr/>
        </p:nvSpPr>
        <p:spPr>
          <a:xfrm>
            <a:off x="246240" y="1541520"/>
            <a:ext cx="4162320" cy="42559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CuadroTexto 8"/>
          <p:cNvSpPr/>
          <p:nvPr/>
        </p:nvSpPr>
        <p:spPr>
          <a:xfrm>
            <a:off x="352440" y="2449440"/>
            <a:ext cx="3951360" cy="214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Prescribir criterios para seleccionar y modificar las políticas contables, así como el </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tratamiento contable y la información a revelar acerca de los cambios en las políticas contables;</a:t>
            </a:r>
            <a:endParaRPr b="0" lang="en-US" sz="15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Cambios en las estimaciones contables y</a:t>
            </a:r>
            <a:endParaRPr b="0" lang="en-US" sz="15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La corrección de errores</a:t>
            </a:r>
            <a:endParaRPr b="0" lang="en-US" sz="1500" spc="-1" strike="noStrike">
              <a:solidFill>
                <a:srgbClr val="000000"/>
              </a:solidFill>
              <a:latin typeface="Arial"/>
            </a:endParaRPr>
          </a:p>
        </p:txBody>
      </p:sp>
      <p:sp>
        <p:nvSpPr>
          <p:cNvPr id="185" name="Rectángulo 18"/>
          <p:cNvSpPr/>
          <p:nvPr/>
        </p:nvSpPr>
        <p:spPr>
          <a:xfrm>
            <a:off x="4714920" y="1541520"/>
            <a:ext cx="4162320" cy="42559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CuadroTexto 12"/>
          <p:cNvSpPr/>
          <p:nvPr/>
        </p:nvSpPr>
        <p:spPr>
          <a:xfrm>
            <a:off x="4819680" y="2449440"/>
            <a:ext cx="3952800" cy="3517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Son los principios, bases, convencionalismos, reglas y </a:t>
            </a:r>
            <a:r>
              <a:rPr b="0" lang="es-PE" sz="1500" spc="-1" strike="noStrike" u="sng">
                <a:solidFill>
                  <a:srgbClr val="000000"/>
                </a:solidFill>
                <a:uFillTx/>
                <a:latin typeface="Arial"/>
              </a:rPr>
              <a:t>procedimientos específicos </a:t>
            </a:r>
            <a:r>
              <a:rPr b="0" lang="es-PE" sz="1500" spc="-1" strike="noStrike">
                <a:solidFill>
                  <a:srgbClr val="000000"/>
                </a:solidFill>
                <a:latin typeface="Arial"/>
              </a:rPr>
              <a:t>adoptados por la entidad, en la elaboración y presentación de sus estados financiero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Ejemplos:</a:t>
            </a:r>
            <a:endParaRPr b="0" lang="en-US" sz="15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Cambio de la base contable del efectivo al devengado.</a:t>
            </a:r>
            <a:endParaRPr b="0" lang="en-US" sz="15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Cambio en la valuación de existencias del método PEPS a Promedio.</a:t>
            </a:r>
            <a:endParaRPr b="0" lang="en-US" sz="15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Cambio del método de depreciación en línea recta a unidades producidas.</a:t>
            </a:r>
            <a:endParaRPr b="0" lang="en-US" sz="15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87" name="Rectángulo 14" descr=""/>
          <p:cNvPicPr/>
          <p:nvPr/>
        </p:nvPicPr>
        <p:blipFill>
          <a:blip r:embed="rId2"/>
          <a:stretch/>
        </p:blipFill>
        <p:spPr>
          <a:xfrm>
            <a:off x="5340240" y="1828800"/>
            <a:ext cx="2913120" cy="566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Rectángulo 7"/>
          <p:cNvSpPr/>
          <p:nvPr/>
        </p:nvSpPr>
        <p:spPr>
          <a:xfrm>
            <a:off x="246240" y="1541520"/>
            <a:ext cx="4162320" cy="42559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CuadroTexto 8"/>
          <p:cNvSpPr/>
          <p:nvPr/>
        </p:nvSpPr>
        <p:spPr>
          <a:xfrm>
            <a:off x="246240" y="2089080"/>
            <a:ext cx="405756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Arial"/>
              </a:rPr>
              <a:t>En ausencia de una NICSP que sea  aplicable específicamente a una transacción o a otros hechos o condiciones, la gerencia deberá usar su juicio en el desarrollo y aplicación de una política contable, a fin de suministrar información que sea relevante y fiable.</a:t>
            </a:r>
            <a:endParaRPr b="0" lang="en-US" sz="1500" spc="-1" strike="noStrike">
              <a:solidFill>
                <a:srgbClr val="000000"/>
              </a:solidFill>
              <a:latin typeface="Arial"/>
            </a:endParaRPr>
          </a:p>
        </p:txBody>
      </p:sp>
      <p:sp>
        <p:nvSpPr>
          <p:cNvPr id="190" name="Rectángulo 18"/>
          <p:cNvSpPr/>
          <p:nvPr/>
        </p:nvSpPr>
        <p:spPr>
          <a:xfrm>
            <a:off x="4714920" y="1541520"/>
            <a:ext cx="4162320" cy="42559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CuadroTexto 12"/>
          <p:cNvSpPr/>
          <p:nvPr/>
        </p:nvSpPr>
        <p:spPr>
          <a:xfrm>
            <a:off x="4819680" y="2449440"/>
            <a:ext cx="3952800" cy="778680"/>
          </a:xfrm>
          <a:prstGeom prst="rect">
            <a:avLst/>
          </a:prstGeom>
          <a:noFill/>
          <a:ln w="0">
            <a:noFill/>
          </a:ln>
        </p:spPr>
        <p:style>
          <a:lnRef idx="0"/>
          <a:fillRef idx="0"/>
          <a:effectRef idx="0"/>
          <a:fontRef idx="minor"/>
        </p:style>
        <p:txBody>
          <a:bodyPr lIns="90000" rIns="90000" tIns="46800" bIns="46800" anchor="t">
            <a:spAutoFit/>
          </a:bodyPr>
          <a:p>
            <a:pPr marL="257040" indent="-2570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57040" indent="-257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57040" indent="-257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92" name="Rectángulo 10" descr=""/>
          <p:cNvPicPr/>
          <p:nvPr/>
        </p:nvPicPr>
        <p:blipFill>
          <a:blip r:embed="rId1"/>
          <a:stretch/>
        </p:blipFill>
        <p:spPr>
          <a:xfrm>
            <a:off x="628560" y="1609560"/>
            <a:ext cx="3400560" cy="567000"/>
          </a:xfrm>
          <a:prstGeom prst="rect">
            <a:avLst/>
          </a:prstGeom>
          <a:ln w="0">
            <a:noFill/>
          </a:ln>
        </p:spPr>
      </p:pic>
      <p:sp>
        <p:nvSpPr>
          <p:cNvPr id="193" name="CuadroTexto 11"/>
          <p:cNvSpPr/>
          <p:nvPr/>
        </p:nvSpPr>
        <p:spPr>
          <a:xfrm>
            <a:off x="274680" y="3621240"/>
            <a:ext cx="4110120" cy="169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Estos juicios deberán hacer referencia, en </a:t>
            </a:r>
            <a:r>
              <a:rPr b="1" lang="es-PE" sz="1500" spc="-1" strike="noStrike" u="sng">
                <a:solidFill>
                  <a:srgbClr val="000000"/>
                </a:solidFill>
                <a:uFillTx/>
                <a:latin typeface="Arial"/>
              </a:rPr>
              <a:t>orden descendente,</a:t>
            </a:r>
            <a:r>
              <a:rPr b="0" lang="es-PE" sz="1500" spc="-1" strike="noStrike">
                <a:solidFill>
                  <a:srgbClr val="000000"/>
                </a:solidFill>
                <a:latin typeface="Arial"/>
              </a:rPr>
              <a:t> a las siguientes fuentes:</a:t>
            </a:r>
            <a:endParaRPr b="0" lang="en-US" sz="15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NICSP que traten temas similares y relacionados</a:t>
            </a:r>
            <a:endParaRPr b="0" lang="en-US" sz="15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Las definiciones, criterios de reconocimiento y medición de activos, pasivos, ingresos y gastos establecidos en otras NICSP.</a:t>
            </a:r>
            <a:endParaRPr b="0" lang="en-US" sz="1500" spc="-1" strike="noStrike">
              <a:solidFill>
                <a:srgbClr val="000000"/>
              </a:solidFill>
              <a:latin typeface="Arial"/>
            </a:endParaRPr>
          </a:p>
        </p:txBody>
      </p:sp>
      <p:sp>
        <p:nvSpPr>
          <p:cNvPr id="194" name="CuadroTexto 13"/>
          <p:cNvSpPr/>
          <p:nvPr/>
        </p:nvSpPr>
        <p:spPr>
          <a:xfrm>
            <a:off x="4826160" y="1779480"/>
            <a:ext cx="3921120" cy="33822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Calibri"/>
              </a:rPr>
              <a:t>Asimismo, la gerencia podría considerar también para su juicio en el desarrollo de políticas contables:</a:t>
            </a:r>
            <a:endParaRPr b="0" lang="en-US" sz="15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Calibri"/>
              </a:rPr>
              <a:t>Pronunciamientos más recientes de otras instituciones emisoras de normas y</a:t>
            </a:r>
            <a:endParaRPr b="0" lang="en-US" sz="15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Calibri"/>
              </a:rPr>
              <a:t>Las prácticas aceptadas del sector público o privado en la medida que no entren en conflicto con las dos fuentes del párrafo anterior.</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300" spc="-1" strike="noStrike">
                <a:solidFill>
                  <a:srgbClr val="0070c0"/>
                </a:solidFill>
                <a:latin typeface="Calibri"/>
              </a:rPr>
              <a:t>Ejemplos incluyen los pronunciamientos del IASB (NIIF) incluyendo el Marco Conceptual para la Preparación y Presentación de Estados Financieros, las NIIF e Interpretaciones emitidas por el Comité Internacional de Interpretaciones de Información Financiera IFRIC del IASB o el anterior Comité de Interpretaciones SIC.</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Rectángulo 7"/>
          <p:cNvSpPr/>
          <p:nvPr/>
        </p:nvSpPr>
        <p:spPr>
          <a:xfrm>
            <a:off x="246240" y="1528920"/>
            <a:ext cx="4162320" cy="42559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CuadroTexto 8"/>
          <p:cNvSpPr/>
          <p:nvPr/>
        </p:nvSpPr>
        <p:spPr>
          <a:xfrm>
            <a:off x="352440" y="2071800"/>
            <a:ext cx="3951360" cy="260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500" spc="-1" strike="noStrike" u="sng">
                <a:solidFill>
                  <a:srgbClr val="000000"/>
                </a:solidFill>
                <a:uFillTx/>
                <a:latin typeface="Arial"/>
                <a:ea typeface="Arial"/>
              </a:rPr>
              <a:t>Las políticas contables deben ser aplicadas consistentemente a lo largo del tiempo</a:t>
            </a:r>
            <a:r>
              <a:rPr b="0" lang="es-PE" sz="1500" spc="-1" strike="noStrike">
                <a:solidFill>
                  <a:srgbClr val="000000"/>
                </a:solidFill>
                <a:latin typeface="Arial"/>
                <a:ea typeface="Arial"/>
              </a:rPr>
              <a:t>, ello ante la necesidad de poder comparar los estados financieros de una entidad e identificar las tendencias en su situación financiera (Balance General o ESF), rendimientos (Estado de Gestión) y flujos de caja, a menos que una NICSP requiera el cambio, o este lleve a que los EEFF presenten información de mayor importancia y confiabilidad.</a:t>
            </a:r>
            <a:endParaRPr b="0" lang="en-US" sz="1500" spc="-1" strike="noStrike">
              <a:solidFill>
                <a:srgbClr val="000000"/>
              </a:solidFill>
              <a:latin typeface="Arial"/>
            </a:endParaRPr>
          </a:p>
        </p:txBody>
      </p:sp>
      <p:sp>
        <p:nvSpPr>
          <p:cNvPr id="197" name="Rectángulo 18"/>
          <p:cNvSpPr/>
          <p:nvPr/>
        </p:nvSpPr>
        <p:spPr>
          <a:xfrm>
            <a:off x="4714920" y="1541520"/>
            <a:ext cx="4162320" cy="42559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CuadroTexto 12"/>
          <p:cNvSpPr/>
          <p:nvPr/>
        </p:nvSpPr>
        <p:spPr>
          <a:xfrm>
            <a:off x="4819680" y="2048040"/>
            <a:ext cx="3952800" cy="3471840"/>
          </a:xfrm>
          <a:prstGeom prst="rect">
            <a:avLst/>
          </a:prstGeom>
          <a:noFill/>
          <a:ln w="9360">
            <a:solidFill>
              <a:srgbClr val="95b3d7"/>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500" spc="-1" strike="noStrike">
                <a:solidFill>
                  <a:srgbClr val="000000"/>
                </a:solidFill>
                <a:latin typeface="Arial"/>
              </a:rPr>
              <a:t>La aplicación por primera vez de una política contable que consista en la revaluación de activos, de acuerdo con la NICSP 17 o NICSP 31 Activos Intangibles, es un cambio de política contable que ha de ser tratado como una revaluación, de acuerdo con la NICSP 17 o la NICSP 31 Activos Intangibles, en lugar de aplicar las disposiciones contenidas en esta norma. </a:t>
            </a:r>
            <a:r>
              <a:rPr b="0" i="1" lang="es-PE" sz="1200" spc="-1" strike="noStrike">
                <a:solidFill>
                  <a:srgbClr val="ff0000"/>
                </a:solidFill>
                <a:latin typeface="Arial"/>
              </a:rPr>
              <a:t>Párrafo 22 NICSP 03</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500" spc="-1" strike="noStrike" u="sng">
                <a:solidFill>
                  <a:srgbClr val="ff0000"/>
                </a:solidFill>
                <a:uFillTx/>
                <a:latin typeface="Arial"/>
              </a:rPr>
              <a:t>Aplicable a la Directiva 002-2014-EF/51.01</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Rectángulo 7"/>
          <p:cNvSpPr/>
          <p:nvPr/>
        </p:nvSpPr>
        <p:spPr>
          <a:xfrm>
            <a:off x="246240" y="1528920"/>
            <a:ext cx="4162320" cy="42559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CuadroTexto 8"/>
          <p:cNvSpPr/>
          <p:nvPr/>
        </p:nvSpPr>
        <p:spPr>
          <a:xfrm>
            <a:off x="399960" y="2332080"/>
            <a:ext cx="3849840" cy="3289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500" spc="-1" strike="noStrike">
                <a:solidFill>
                  <a:srgbClr val="000000"/>
                </a:solidFill>
                <a:latin typeface="Arial"/>
                <a:ea typeface="Arial"/>
              </a:rPr>
              <a:t>Una entidad contabilizará un cambio en una política contable derivado de la aplicación inicial de una NICSP, de acuerdo con las </a:t>
            </a:r>
            <a:r>
              <a:rPr b="1" i="1" lang="es-PE" sz="1500" spc="-1" strike="noStrike" u="sng">
                <a:solidFill>
                  <a:srgbClr val="000000"/>
                </a:solidFill>
                <a:uFillTx/>
                <a:latin typeface="Arial"/>
                <a:ea typeface="Arial"/>
              </a:rPr>
              <a:t>disposiciones transitorias</a:t>
            </a:r>
            <a:r>
              <a:rPr b="0" i="1" lang="es-PE" sz="1500" spc="-1" strike="noStrike">
                <a:solidFill>
                  <a:srgbClr val="000000"/>
                </a:solidFill>
                <a:latin typeface="Arial"/>
                <a:ea typeface="Arial"/>
              </a:rPr>
              <a:t> específicas de tal Norma, si las hubiere; y</a:t>
            </a:r>
            <a:endParaRPr b="0" lang="en-US" sz="1500" spc="-1" strike="noStrike">
              <a:solidFill>
                <a:srgbClr val="000000"/>
              </a:solidFill>
              <a:latin typeface="Arial"/>
            </a:endParaRPr>
          </a:p>
          <a:p>
            <a:pPr marL="343080" indent="-34308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500" spc="-1" strike="noStrike">
                <a:solidFill>
                  <a:srgbClr val="000000"/>
                </a:solidFill>
                <a:latin typeface="Arial"/>
                <a:ea typeface="Arial"/>
              </a:rPr>
              <a:t>Cuando una entidad cambie una política contable, ya sea por la aplicación inicial de NICSP que no incluya una disposición transitoria específica aplicable a tal cambio, o porque haya decidido cambiarla de forma voluntaria, </a:t>
            </a:r>
            <a:r>
              <a:rPr b="1" i="1" lang="es-PE" sz="1500" spc="-1" strike="noStrike" u="sng">
                <a:solidFill>
                  <a:srgbClr val="000000"/>
                </a:solidFill>
                <a:uFillTx/>
                <a:latin typeface="Arial"/>
                <a:ea typeface="Arial"/>
              </a:rPr>
              <a:t>aplicará dicho cambio retroactivamente</a:t>
            </a:r>
            <a:r>
              <a:rPr b="0" i="1" lang="es-PE" sz="1500" spc="-1" strike="noStrike">
                <a:solidFill>
                  <a:srgbClr val="000000"/>
                </a:solidFill>
                <a:latin typeface="Arial"/>
                <a:ea typeface="Arial"/>
              </a:rPr>
              <a:t>.</a:t>
            </a:r>
            <a:endParaRPr b="0" lang="en-US" sz="1500" spc="-1" strike="noStrike">
              <a:solidFill>
                <a:srgbClr val="000000"/>
              </a:solidFill>
              <a:latin typeface="Arial"/>
            </a:endParaRPr>
          </a:p>
        </p:txBody>
      </p:sp>
      <p:pic>
        <p:nvPicPr>
          <p:cNvPr id="201" name="Rectángulo 9" descr=""/>
          <p:cNvPicPr/>
          <p:nvPr/>
        </p:nvPicPr>
        <p:blipFill>
          <a:blip r:embed="rId1"/>
          <a:stretch/>
        </p:blipFill>
        <p:spPr>
          <a:xfrm>
            <a:off x="566640" y="1596960"/>
            <a:ext cx="3517920" cy="84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2" name="Rectángulo 7" descr=""/>
          <p:cNvPicPr/>
          <p:nvPr/>
        </p:nvPicPr>
        <p:blipFill>
          <a:blip r:embed="rId1"/>
          <a:stretch/>
        </p:blipFill>
        <p:spPr>
          <a:xfrm>
            <a:off x="566640" y="1700280"/>
            <a:ext cx="3517920" cy="573120"/>
          </a:xfrm>
          <a:prstGeom prst="rect">
            <a:avLst/>
          </a:prstGeom>
          <a:ln w="0">
            <a:noFill/>
          </a:ln>
        </p:spPr>
      </p:pic>
      <p:sp>
        <p:nvSpPr>
          <p:cNvPr id="203" name="Rectángulo 8"/>
          <p:cNvSpPr/>
          <p:nvPr/>
        </p:nvSpPr>
        <p:spPr>
          <a:xfrm>
            <a:off x="246240" y="1528920"/>
            <a:ext cx="4162320" cy="42559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CuadroTexto 9"/>
          <p:cNvSpPr/>
          <p:nvPr/>
        </p:nvSpPr>
        <p:spPr>
          <a:xfrm>
            <a:off x="403200" y="2335320"/>
            <a:ext cx="3848040" cy="283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Arial"/>
              </a:rPr>
              <a:t>La aplicación retrospectiva significa aplicar una nueva política contable a las transacciones, otros eventos y condiciones como si esta política hubiese sido siempre aplicada.</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Arial"/>
              </a:rPr>
              <a:t>El saldo inicial de cada componentes del </a:t>
            </a:r>
            <a:r>
              <a:rPr b="1" lang="es-PE" sz="1500" spc="-1" strike="noStrike" u="sng">
                <a:solidFill>
                  <a:srgbClr val="000000"/>
                </a:solidFill>
                <a:uFillTx/>
                <a:latin typeface="Arial"/>
                <a:ea typeface="Arial"/>
              </a:rPr>
              <a:t>patrimonio</a:t>
            </a:r>
            <a:r>
              <a:rPr b="0" lang="es-PE" sz="1500" spc="-1" strike="noStrike">
                <a:solidFill>
                  <a:srgbClr val="000000"/>
                </a:solidFill>
                <a:latin typeface="Arial"/>
                <a:ea typeface="Arial"/>
              </a:rPr>
              <a:t> afectado es ajustado desde el primer período presentado y los importes comparativos deben ser revelados como si la nueva política hubiese sido siempre aplicada.</a:t>
            </a:r>
            <a:endParaRPr b="0" lang="en-US" sz="1500" spc="-1" strike="noStrike">
              <a:solidFill>
                <a:srgbClr val="000000"/>
              </a:solidFill>
              <a:latin typeface="Arial"/>
            </a:endParaRPr>
          </a:p>
        </p:txBody>
      </p:sp>
      <p:pic>
        <p:nvPicPr>
          <p:cNvPr id="205" name="Rectángulo 10" descr=""/>
          <p:cNvPicPr/>
          <p:nvPr/>
        </p:nvPicPr>
        <p:blipFill>
          <a:blip r:embed="rId2"/>
          <a:stretch/>
        </p:blipFill>
        <p:spPr>
          <a:xfrm>
            <a:off x="4998960" y="1616040"/>
            <a:ext cx="3516480" cy="846000"/>
          </a:xfrm>
          <a:prstGeom prst="rect">
            <a:avLst/>
          </a:prstGeom>
          <a:ln w="0">
            <a:noFill/>
          </a:ln>
        </p:spPr>
      </p:pic>
      <p:sp>
        <p:nvSpPr>
          <p:cNvPr id="206" name="Rectángulo 11"/>
          <p:cNvSpPr/>
          <p:nvPr/>
        </p:nvSpPr>
        <p:spPr>
          <a:xfrm>
            <a:off x="4678200" y="1528920"/>
            <a:ext cx="4162680" cy="42559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CuadroTexto 12"/>
          <p:cNvSpPr/>
          <p:nvPr/>
        </p:nvSpPr>
        <p:spPr>
          <a:xfrm>
            <a:off x="4835520" y="2408400"/>
            <a:ext cx="384804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Arial"/>
              </a:rPr>
              <a:t>Cuando fuera impracticable determinar los efectos del cambio de política en cada periodo específico o el efecto acumulado, la aplicación retroactiva no se aplicará.</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Rectángulo 7"/>
          <p:cNvSpPr/>
          <p:nvPr/>
        </p:nvSpPr>
        <p:spPr>
          <a:xfrm>
            <a:off x="246240" y="1541520"/>
            <a:ext cx="4162320" cy="42559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ángulo 18"/>
          <p:cNvSpPr/>
          <p:nvPr/>
        </p:nvSpPr>
        <p:spPr>
          <a:xfrm>
            <a:off x="4714920" y="1541520"/>
            <a:ext cx="4162320" cy="42559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CuadroTexto 12"/>
          <p:cNvSpPr/>
          <p:nvPr/>
        </p:nvSpPr>
        <p:spPr>
          <a:xfrm>
            <a:off x="366840" y="2371680"/>
            <a:ext cx="3951000" cy="328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Arial"/>
              </a:rPr>
              <a:t>Es un ajuste en el importe en libros de un activo o de un pasivo, o en el importe del consumo periódico de un activo, que se produce tras la evaluación de la situación actual del elemento, así como de los beneficios futuros esperados y de las obligaciones asociadas con los activos y pasivos futuros esperados y de las obligaciones asociadas con los activos y pasivos correspondientes. Los cambios en las estimaciones contables son el resultado de nueva información o de nuevos acontecimientos y, en consecuencia, no son correcciones de errores.</a:t>
            </a:r>
            <a:endParaRPr b="0" lang="en-US" sz="1500" spc="-1" strike="noStrike">
              <a:solidFill>
                <a:srgbClr val="000000"/>
              </a:solidFill>
              <a:latin typeface="Arial"/>
            </a:endParaRPr>
          </a:p>
        </p:txBody>
      </p:sp>
      <p:sp>
        <p:nvSpPr>
          <p:cNvPr id="211" name="CuadroTexto 10"/>
          <p:cNvSpPr/>
          <p:nvPr/>
        </p:nvSpPr>
        <p:spPr>
          <a:xfrm>
            <a:off x="4819680" y="1635120"/>
            <a:ext cx="3952800" cy="260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Las estimaciones son juicios profesionales basados en información fiable disponible </a:t>
            </a:r>
            <a:r>
              <a:rPr b="1" lang="es-PE" sz="1500" spc="-1" strike="noStrike" u="sng">
                <a:solidFill>
                  <a:srgbClr val="000000"/>
                </a:solidFill>
                <a:uFillTx/>
                <a:latin typeface="Arial"/>
              </a:rPr>
              <a:t>más reciente</a:t>
            </a:r>
            <a:r>
              <a:rPr b="0" lang="es-PE" sz="1500" spc="-1" strike="noStrike">
                <a:solidFill>
                  <a:srgbClr val="000000"/>
                </a:solidFill>
                <a:latin typeface="Arial"/>
              </a:rPr>
              <a:t>, ante la imposibilidad de medir determinadas partidas de los estados financieros con precisión, ejemplo:</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u="sng">
                <a:solidFill>
                  <a:srgbClr val="0000ff"/>
                </a:solidFill>
                <a:uFillTx/>
                <a:latin typeface="Arial"/>
                <a:hlinkClick r:id="rId1"/>
              </a:rPr>
              <a:t>Vidas útiles de los activos duraderos</a:t>
            </a:r>
            <a:endParaRPr b="0" lang="en-US" sz="15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Obsolescencia de los inventarios</a:t>
            </a:r>
            <a:endParaRPr b="0" lang="en-US" sz="15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Valor razonable de activos o pasivos financieros.</a:t>
            </a:r>
            <a:endParaRPr b="0" lang="en-US" sz="15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Obligaciones por garantías concedidas.</a:t>
            </a:r>
            <a:endParaRPr b="0" lang="en-US" sz="1500" spc="-1" strike="noStrike">
              <a:solidFill>
                <a:srgbClr val="000000"/>
              </a:solidFill>
              <a:latin typeface="Arial"/>
            </a:endParaRPr>
          </a:p>
        </p:txBody>
      </p:sp>
      <p:sp>
        <p:nvSpPr>
          <p:cNvPr id="212" name="CuadroTexto 11"/>
          <p:cNvSpPr/>
          <p:nvPr/>
        </p:nvSpPr>
        <p:spPr>
          <a:xfrm>
            <a:off x="4819680" y="4294080"/>
            <a:ext cx="395280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Arial"/>
              </a:rPr>
              <a:t>Un cambio en los criterios de medición es un cambio de política contable y no un cambio en estimación. Cuando sea difícil distinguir un cambio de política y un cambio en estimación, </a:t>
            </a:r>
            <a:r>
              <a:rPr b="1" lang="es-PE" sz="1500" spc="-1" strike="noStrike" u="sng">
                <a:solidFill>
                  <a:srgbClr val="000000"/>
                </a:solidFill>
                <a:uFillTx/>
                <a:latin typeface="Arial"/>
                <a:ea typeface="Arial"/>
              </a:rPr>
              <a:t>se tratará como un cambio en una estimación contable</a:t>
            </a:r>
            <a:endParaRPr b="0" lang="en-US" sz="1500" spc="-1" strike="noStrike">
              <a:solidFill>
                <a:srgbClr val="000000"/>
              </a:solidFill>
              <a:latin typeface="Arial"/>
            </a:endParaRPr>
          </a:p>
        </p:txBody>
      </p:sp>
      <p:pic>
        <p:nvPicPr>
          <p:cNvPr id="213" name="Rectángulo 13" descr=""/>
          <p:cNvPicPr/>
          <p:nvPr/>
        </p:nvPicPr>
        <p:blipFill>
          <a:blip r:embed="rId2"/>
          <a:stretch/>
        </p:blipFill>
        <p:spPr>
          <a:xfrm>
            <a:off x="298440" y="1560600"/>
            <a:ext cx="4071960" cy="84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Rectángulo 7"/>
          <p:cNvSpPr/>
          <p:nvPr/>
        </p:nvSpPr>
        <p:spPr>
          <a:xfrm>
            <a:off x="246240" y="1528920"/>
            <a:ext cx="4162320" cy="449244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CuadroTexto 8"/>
          <p:cNvSpPr/>
          <p:nvPr/>
        </p:nvSpPr>
        <p:spPr>
          <a:xfrm>
            <a:off x="399960" y="2332080"/>
            <a:ext cx="3849840" cy="351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Arial"/>
              </a:rPr>
              <a:t>El efecto de un cambio en una estimación contable, diferente de aquellos cambios a los que se aplique el párrafo 42., se reconocerá de forma prospectiva, incluyéndolo en el resultado positivo (ahorro) o negativo (desahorro) </a:t>
            </a:r>
            <a:r>
              <a:rPr b="0" i="1" lang="es-PE" sz="1500" spc="-1" strike="noStrike">
                <a:solidFill>
                  <a:srgbClr val="ff0000"/>
                </a:solidFill>
                <a:latin typeface="Arial"/>
                <a:ea typeface="Arial"/>
              </a:rPr>
              <a:t>párrafo 41 NICSP 03</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Arial"/>
              </a:rPr>
              <a:t>Ello se refiere a que cualquier cambio relacionado con estimaciones contables, se aplicará a los resultados del ejercicio en el que se realiza el cambio (ingresos y gastos según corresponda), salvo que el cambio en una estimación contable dé lugar a:</a:t>
            </a:r>
            <a:endParaRPr b="0" lang="en-US" sz="1500" spc="-1" strike="noStrike">
              <a:solidFill>
                <a:srgbClr val="000000"/>
              </a:solidFill>
              <a:latin typeface="Arial"/>
            </a:endParaRPr>
          </a:p>
        </p:txBody>
      </p:sp>
      <p:sp>
        <p:nvSpPr>
          <p:cNvPr id="216" name="Rectángulo 18"/>
          <p:cNvSpPr/>
          <p:nvPr/>
        </p:nvSpPr>
        <p:spPr>
          <a:xfrm>
            <a:off x="4714920" y="1541520"/>
            <a:ext cx="4162320" cy="447984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CuadroTexto 12"/>
          <p:cNvSpPr/>
          <p:nvPr/>
        </p:nvSpPr>
        <p:spPr>
          <a:xfrm>
            <a:off x="4819680" y="2048040"/>
            <a:ext cx="3952800" cy="1463400"/>
          </a:xfrm>
          <a:prstGeom prst="rect">
            <a:avLst/>
          </a:prstGeom>
          <a:noFill/>
          <a:ln w="9360">
            <a:solidFill>
              <a:srgbClr val="95b3d7"/>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500" spc="-1" strike="noStrike" u="sng">
                <a:solidFill>
                  <a:srgbClr val="000000"/>
                </a:solidFill>
                <a:uFillTx/>
                <a:latin typeface="Arial"/>
              </a:rPr>
              <a:t>Cambios en activos y pasivos o patrimonio</a:t>
            </a:r>
            <a:r>
              <a:rPr b="0" lang="es-PE" sz="1500" spc="-1" strike="noStrike">
                <a:solidFill>
                  <a:srgbClr val="000000"/>
                </a:solidFill>
                <a:latin typeface="Arial"/>
              </a:rPr>
              <a:t>; en este caso, el cambio en la estimación deberá ser reconocido ajustando el valor en libros de la correspondiente partida de activo, pasivo o patrimonio en el periodo en que tiene lugar el cambio. </a:t>
            </a:r>
            <a:endParaRPr b="0" lang="en-US" sz="1500" spc="-1" strike="noStrike">
              <a:solidFill>
                <a:srgbClr val="000000"/>
              </a:solidFill>
              <a:latin typeface="Arial"/>
            </a:endParaRPr>
          </a:p>
        </p:txBody>
      </p:sp>
      <p:pic>
        <p:nvPicPr>
          <p:cNvPr id="218" name="Rectángulo 9" descr=""/>
          <p:cNvPicPr/>
          <p:nvPr/>
        </p:nvPicPr>
        <p:blipFill>
          <a:blip r:embed="rId1"/>
          <a:stretch/>
        </p:blipFill>
        <p:spPr>
          <a:xfrm>
            <a:off x="566640" y="1616040"/>
            <a:ext cx="3517920" cy="69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9" name="Rectángulo 7"/>
          <p:cNvSpPr/>
          <p:nvPr/>
        </p:nvSpPr>
        <p:spPr>
          <a:xfrm>
            <a:off x="246240" y="1541520"/>
            <a:ext cx="4162320" cy="42559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ángulo 18"/>
          <p:cNvSpPr/>
          <p:nvPr/>
        </p:nvSpPr>
        <p:spPr>
          <a:xfrm>
            <a:off x="4714920" y="1541520"/>
            <a:ext cx="4162320" cy="42559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CuadroTexto 12"/>
          <p:cNvSpPr/>
          <p:nvPr/>
        </p:nvSpPr>
        <p:spPr>
          <a:xfrm>
            <a:off x="344520" y="2262240"/>
            <a:ext cx="3951360" cy="3061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Son las omisiones e inexactitudes en los estados financieros de una entidad, para uno o más periodos anteriores, resultantes de un fallo al emplear o de un error al utilizar información fiable que:</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Estaba disponible cuando los estados financieros para tales periodos fueron autorizados para su emisión; y</a:t>
            </a:r>
            <a:endParaRPr b="0" lang="en-US" sz="15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Podría esperarse razonablemente que se hubiera conseguido y tenido en cuenta en la elaboración y presentación de aquellos estados financieros.</a:t>
            </a:r>
            <a:endParaRPr b="0" lang="en-US" sz="1500" spc="-1" strike="noStrike">
              <a:solidFill>
                <a:srgbClr val="000000"/>
              </a:solidFill>
              <a:latin typeface="Arial"/>
            </a:endParaRPr>
          </a:p>
        </p:txBody>
      </p:sp>
      <p:sp>
        <p:nvSpPr>
          <p:cNvPr id="222" name="CuadroTexto 10"/>
          <p:cNvSpPr/>
          <p:nvPr/>
        </p:nvSpPr>
        <p:spPr>
          <a:xfrm>
            <a:off x="4819680" y="2343240"/>
            <a:ext cx="3952800" cy="169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Ejemplo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Errores aritméticos</a:t>
            </a:r>
            <a:endParaRPr b="0" lang="en-US" sz="15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Errores en la aplicación de políticas contables</a:t>
            </a:r>
            <a:endParaRPr b="0" lang="en-US" sz="15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Inadvertencia o mala interpretación de hechos, así como fraudes.</a:t>
            </a:r>
            <a:endParaRPr b="0" lang="en-US" sz="1500" spc="-1" strike="noStrike">
              <a:solidFill>
                <a:srgbClr val="000000"/>
              </a:solidFill>
              <a:latin typeface="Arial"/>
            </a:endParaRPr>
          </a:p>
        </p:txBody>
      </p:sp>
      <p:pic>
        <p:nvPicPr>
          <p:cNvPr id="223" name="Rectángulo 13" descr=""/>
          <p:cNvPicPr/>
          <p:nvPr/>
        </p:nvPicPr>
        <p:blipFill>
          <a:blip r:embed="rId1"/>
          <a:stretch/>
        </p:blipFill>
        <p:spPr>
          <a:xfrm>
            <a:off x="360360" y="1719360"/>
            <a:ext cx="3936960" cy="573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0T04:22:51Z</dcterms:created>
  <dc:creator>USUARIO</dc:creator>
  <dc:description/>
  <dc:language>en-US</dc:language>
  <cp:lastModifiedBy>Luffi</cp:lastModifiedBy>
  <dcterms:modified xsi:type="dcterms:W3CDTF">2015-07-06T06:02:09Z</dcterms:modified>
  <cp:revision>148</cp:revision>
  <dc:subject/>
  <dc:title>Diapositiva 1</dc:title>
</cp:coreProperties>
</file>